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Stra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in’s Critique of Davis and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Know Positions Most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cation Should = Merit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ught to Benefit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ca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ciety Can Exist Unless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Means Inequalities of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Nature is Self-C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Explanation is Ideology of the E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onsciousness Will Overcome Blinding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pplications of 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ki’s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ology vs.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nformation and Us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Elites Maintain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Former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Soci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orld—Industrialized Capital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orld—Commun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orld—Nations that Don’t Fit  in First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(Old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Rich, Non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System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World’s Nations Become Stra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y of relative privilege based on power, property, and presti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Global Do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Glob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in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’s Religious 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Racial 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 and Status of Fe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l Marx: The Means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eber: Property, Prestige,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nt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ust Make Sure all Positions are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sitions are More Important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tivate Qualified People, They Must Be Re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ortant Positions Filled by More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EB59-B192-46E3-98AE-1755CD950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F3D3-C2EC-491D-8474-932DEDDE8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AC97-C597-4DC4-A526-723B9EA41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80E5-5544-4A1F-93AC-3DAE4315C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43B28-E355-4E41-8577-B4F42C1D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B6536-192A-422A-83CE-770EE062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3EBF5-D8BF-430A-BD53-84B1078B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D6F33-D7B6-40CF-B1DB-FCE1270C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C4D73-9E66-4445-B7FD-B3BF28AE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0162B-3763-4D03-A701-BEC836B8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834D3-B690-43D8-B9F8-54B25A1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D9D1-A67D-4987-9E5F-23F953E9E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858EC-860E-474D-B816-7265C983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14D3D-BA1F-4A89-88AC-1E4290B5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CC450-37BC-487A-883F-1A911D9C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872DF-7552-418D-B96E-FA081852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09057-A40D-493A-9F77-4AB42965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0363-F7FB-42DB-889C-5E8FD0E08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354C-CE22-4E19-AB86-59769B03C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3D19-E0BD-449D-9A90-5E5E60314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408E-FFEC-44E4-B524-EFE735C71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A4CC-D9F6-447D-8CA2-DAFA01D15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EBCD-6783-4471-91BF-1528A93C0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5E4E-DF94-4B2C-97C3-9FA61049E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F077-0C66-4194-9F69-7F5731605EC5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9: Global Stratific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6E92-6636-4F9F-A428-32354E5A9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28960"/>
            <a:ext cx="480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Nin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lobal Stratific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10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umin’s Critique of Davis and Mo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do We Know Positions Most Important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tification Should = Merit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Ought to Benefit Everyo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ca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ociety Can Exist Unless Organiz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Means Inequalities of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 Nature is Self-Cente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333360"/>
            <a:ext cx="807732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1337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 Explanation is Ideology of the Eli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 Consciousness Will Overcome Blinding Ide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Applications of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nski’s Synthe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790560"/>
            <a:ext cx="784872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ology vs. F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de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nformation and Using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714240"/>
            <a:ext cx="777240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Elites Maintain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Great Brita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Former Soviet Un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762120"/>
            <a:ext cx="7086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arative Soci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orld—Industrialized Capital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orld—Commun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orld—Nations that Don’t Fit  in First Tw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762120"/>
            <a:ext cx="6782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Old Model)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762120"/>
            <a:ext cx="6705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il-Rich, Non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3049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ying the Mod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ld System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valuating the Theo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714240"/>
            <a:ext cx="79250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id World’s Nations Become Stratified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hierarchy of relative privilege based on power, property, and prestige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1447920"/>
            <a:ext cx="648324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Social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o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national Corpor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Global Do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7621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aintaining Glob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Henslin final"/>
          <p:cNvPicPr/>
          <p:nvPr/>
        </p:nvPicPr>
        <p:blipFill>
          <a:blip r:embed="rId1"/>
          <a:stretch/>
        </p:blipFill>
        <p:spPr>
          <a:xfrm>
            <a:off x="24382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in the New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Slaver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a’s Religious Cas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uth Afric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.S. Racial Cast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23880"/>
            <a:ext cx="784872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Cast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st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Stratification and Status of Fema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62120"/>
            <a:ext cx="7010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Oth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: The Means of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x Weber: Property, Prestige,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263600"/>
            <a:ext cx="80010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ants of Social Clas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4" name="Picture 5" descr="C:\PowerPoint Work\Allyn &amp; Bacon\2005 Work\Henslin 8ed\Artwork\09-01.jpg"/>
          <p:cNvPicPr/>
          <p:nvPr/>
        </p:nvPicPr>
        <p:blipFill>
          <a:blip r:embed="rId1"/>
          <a:srcRect l="0" t="0" r="0" b="17076"/>
          <a:stretch/>
        </p:blipFill>
        <p:spPr>
          <a:xfrm>
            <a:off x="3352680" y="152280"/>
            <a:ext cx="24544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vis and Moore’s Expla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Must Make Sure all Positions are Fill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Positions are More Important than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 Motivate Qualified People, They Must Be Rewar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6680" y="2057400"/>
            <a:ext cx="63248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avis and Moore’s Explanatio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 Important Positions Filled by More Qualified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22:36Z</dcterms:modified>
  <cp:revision>183</cp:revision>
  <dc:subject>Chapter 9: Global Stratification</dc:subject>
  <dc:title>Sociology: A Down-to-Earth Approach, 8/e</dc:title>
</cp:coreProperties>
</file>